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0D28-8196-4B67-B381-318E616FA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66EF-7DEA-47F1-A000-007312EE2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1-</a:t>
            </a:r>
            <a:fld id="{E876B4B2-9D4C-49EE-886C-E25E9A5A340E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cision Making and Relevant Informa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8 - 4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1430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ro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19810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72428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05740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400,000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-handling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 suppor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/deliver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cline in 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drop 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15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relevance of Pas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2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374320" cy="9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sunk (irrelev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expected future costs and revenues are 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3623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 Consider replacing an old machine with a new machine with expected lower opera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 New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8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posal value o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ld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0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new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3809880"/>
            <a:ext cx="4876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579132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timization technique used to maximize total contribution margin given multiple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438280"/>
            <a:ext cx="8534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function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ntribution margin = $240S + $375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S + 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sting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S + 0.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2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 shortag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gative impossibilit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 and 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286000" y="3809880"/>
            <a:ext cx="1523880" cy="1219320"/>
            <a:chOff x="2286000" y="3809880"/>
            <a:chExt cx="1523880" cy="1219320"/>
          </a:xfrm>
        </p:grpSpPr>
        <p:sp>
          <p:nvSpPr>
            <p:cNvPr id="132" name=""/>
            <p:cNvSpPr/>
            <p:nvPr/>
          </p:nvSpPr>
          <p:spPr>
            <a:xfrm>
              <a:off x="2362320" y="3809880"/>
              <a:ext cx="1447560" cy="1219320"/>
            </a:xfrm>
            <a:custGeom>
              <a:avLst/>
              <a:gdLst/>
              <a:ahLst/>
              <a:rect l="l" t="t" r="r" b="b"/>
              <a:pathLst>
                <a:path w="912" h="768">
                  <a:moveTo>
                    <a:pt x="0" y="0"/>
                  </a:moveTo>
                  <a:lnTo>
                    <a:pt x="144" y="0"/>
                  </a:lnTo>
                  <a:lnTo>
                    <a:pt x="525" y="111"/>
                  </a:lnTo>
                  <a:lnTo>
                    <a:pt x="912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4267080"/>
              <a:ext cx="1295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easi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olution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5105520"/>
            <a:ext cx="4876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     50     100     150     200     250    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nowmobile Engines (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76200"/>
            <a:ext cx="137160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2286000"/>
            <a:ext cx="685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2362320"/>
            <a:ext cx="0" cy="26668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62320" y="5029200"/>
            <a:ext cx="4419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362320" y="1371600"/>
            <a:ext cx="3276360" cy="3657600"/>
            <a:chOff x="2362320" y="1371600"/>
            <a:chExt cx="3276360" cy="3657600"/>
          </a:xfrm>
        </p:grpSpPr>
        <p:sp>
          <p:nvSpPr>
            <p:cNvPr id="142" name=""/>
            <p:cNvSpPr/>
            <p:nvPr/>
          </p:nvSpPr>
          <p:spPr>
            <a:xfrm>
              <a:off x="2362320" y="2590920"/>
              <a:ext cx="1447560" cy="2438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71800" y="1371600"/>
              <a:ext cx="2666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esting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666520" y="1905120"/>
              <a:ext cx="762120" cy="11430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362320" y="3048120"/>
            <a:ext cx="5333760" cy="761760"/>
            <a:chOff x="2362320" y="3048120"/>
            <a:chExt cx="5333760" cy="761760"/>
          </a:xfrm>
        </p:grpSpPr>
        <p:sp>
          <p:nvSpPr>
            <p:cNvPr id="146" name=""/>
            <p:cNvSpPr/>
            <p:nvPr/>
          </p:nvSpPr>
          <p:spPr>
            <a:xfrm>
              <a:off x="2362320" y="3809880"/>
              <a:ext cx="23619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29200" y="3048120"/>
              <a:ext cx="26668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terial Short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876560" y="3505320"/>
              <a:ext cx="6094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362320" y="3733920"/>
            <a:ext cx="6629400" cy="1295280"/>
            <a:chOff x="2362320" y="3733920"/>
            <a:chExt cx="6629400" cy="1295280"/>
          </a:xfrm>
        </p:grpSpPr>
        <p:sp>
          <p:nvSpPr>
            <p:cNvPr id="150" name=""/>
            <p:cNvSpPr/>
            <p:nvPr/>
          </p:nvSpPr>
          <p:spPr>
            <a:xfrm>
              <a:off x="2362320" y="3733920"/>
              <a:ext cx="4190760" cy="1295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3962520"/>
              <a:ext cx="28958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ssembly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276720" y="2286000"/>
            <a:ext cx="2743200" cy="1676520"/>
            <a:chOff x="3276720" y="2286000"/>
            <a:chExt cx="2743200" cy="1676520"/>
          </a:xfrm>
        </p:grpSpPr>
        <p:sp>
          <p:nvSpPr>
            <p:cNvPr id="154" name=""/>
            <p:cNvSpPr/>
            <p:nvPr/>
          </p:nvSpPr>
          <p:spPr>
            <a:xfrm>
              <a:off x="3581280" y="2286000"/>
              <a:ext cx="2438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8000"/>
            </a:bodyPr>
            <a:p>
              <a:pPr marL="335880" indent="-3358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mal Corn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5880" indent="-335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S, 90B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276720" y="2971800"/>
              <a:ext cx="914400" cy="9907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 and the Decision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16880" indent="-416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decision model is a formal method of making a choice, frequently involving quantitativ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49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60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 Steps in the Decis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25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4 - 4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714640" y="3428640"/>
            <a:ext cx="1755360" cy="2514960"/>
            <a:chOff x="5714640" y="3428640"/>
            <a:chExt cx="1755360" cy="2514960"/>
          </a:xfrm>
        </p:grpSpPr>
        <p:sp>
          <p:nvSpPr>
            <p:cNvPr id="53" name=""/>
            <p:cNvSpPr/>
            <p:nvPr/>
          </p:nvSpPr>
          <p:spPr>
            <a:xfrm flipH="1">
              <a:off x="5714640" y="342900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5714640" y="403848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867280" y="4648320"/>
              <a:ext cx="9907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019920" y="5334120"/>
              <a:ext cx="8380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858000" y="3428640"/>
              <a:ext cx="0" cy="2514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943600" y="5943600"/>
              <a:ext cx="9144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6401880" y="41893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eedback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04920" y="32004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90680" indent="-490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4920" y="5562720"/>
            <a:ext cx="6019560" cy="685800"/>
            <a:chOff x="304920" y="5562720"/>
            <a:chExt cx="6019560" cy="685800"/>
          </a:xfrm>
        </p:grpSpPr>
        <p:sp>
          <p:nvSpPr>
            <p:cNvPr id="62" name=""/>
            <p:cNvSpPr/>
            <p:nvPr/>
          </p:nvSpPr>
          <p:spPr>
            <a:xfrm>
              <a:off x="3581280" y="556272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5715000"/>
              <a:ext cx="601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5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valuate perform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04920" y="3657600"/>
            <a:ext cx="5257800" cy="609480"/>
            <a:chOff x="304920" y="3657600"/>
            <a:chExt cx="5257800" cy="609480"/>
          </a:xfrm>
        </p:grpSpPr>
        <p:sp>
          <p:nvSpPr>
            <p:cNvPr id="65" name=""/>
            <p:cNvSpPr/>
            <p:nvPr/>
          </p:nvSpPr>
          <p:spPr>
            <a:xfrm>
              <a:off x="3581280" y="365760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38098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ke prediction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04920" y="4267080"/>
            <a:ext cx="5257800" cy="685800"/>
            <a:chOff x="304920" y="4267080"/>
            <a:chExt cx="5257800" cy="685800"/>
          </a:xfrm>
        </p:grpSpPr>
        <p:sp>
          <p:nvSpPr>
            <p:cNvPr id="68" name=""/>
            <p:cNvSpPr/>
            <p:nvPr/>
          </p:nvSpPr>
          <p:spPr>
            <a:xfrm>
              <a:off x="3581280" y="42670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920" y="44956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hoose an alternativ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04920" y="4952880"/>
            <a:ext cx="5638680" cy="609840"/>
            <a:chOff x="304920" y="4952880"/>
            <a:chExt cx="5638680" cy="609840"/>
          </a:xfrm>
        </p:grpSpPr>
        <p:sp>
          <p:nvSpPr>
            <p:cNvPr id="71" name=""/>
            <p:cNvSpPr/>
            <p:nvPr/>
          </p:nvSpPr>
          <p:spPr>
            <a:xfrm>
              <a:off x="3581280" y="49528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5105520"/>
              <a:ext cx="563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mplement the decis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Costs and Reven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 are expected future costs that differ across alternative courses of 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 are expected future revenues that differ across alternative courses of ac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ry decision deals with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ir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osts are sometimes called sunk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st costs are only useful in that they may help predict costs in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5 - 4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itative and Qualitative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ative factors are outcomes that ar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costs, sales revenues and volu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ative factors are outcomes that cannot b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mployee morale, customer satisf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92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5791320"/>
            <a:ext cx="7621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57913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5029200"/>
            <a:ext cx="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6 - 40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610240"/>
            <a:ext cx="144756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ical Relevant Costing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-Time-Only Special Order  (Pri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or Buy Decisions  (Outsour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Mix Decisions under Capacity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d or Drop a Product Line or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pment Replacement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-Time-Only Special Or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ou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olu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5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5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5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62,5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37,5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inco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,5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22096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Make/Buy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50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side cost of par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$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8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1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1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4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4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purchasing,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eiving an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tup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2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favour of mak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0 - 4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82880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Opportunit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 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 forgone beca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pacity cannot be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ake another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2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relevan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3 - 4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1828800"/>
            <a:ext cx="31244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441972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44197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040" y="522144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 considers the profits lost by not following the next best alternative course of 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Mix Decisions Under Constra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7 - 4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8800" y="1323720"/>
            <a:ext cx="8374320" cy="29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nowmobil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s required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2209680"/>
            <a:ext cx="3200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20040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200400"/>
            <a:ext cx="6098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840" y="4419720"/>
            <a:ext cx="8373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achine hours are constrained, maximize income by first producing as many snowmobile engines as can be sold and then shift production to boat engin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20:10Z</dcterms:created>
  <dc:creator>User</dc:creator>
  <dc:description/>
  <dc:language>en-US</dc:language>
  <cp:lastModifiedBy>John Moore</cp:lastModifiedBy>
  <cp:lastPrinted>1999-06-03T23:46:28Z</cp:lastPrinted>
  <dcterms:modified xsi:type="dcterms:W3CDTF">2003-03-22T13:16:57Z</dcterms:modified>
  <cp:revision>17</cp:revision>
  <dc:subject/>
  <dc:title>No Slide Title</dc:title>
</cp:coreProperties>
</file>